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C16-69E4-4824-9456-B93F2E6A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6D5-AE01-4C19-B0C5-C10A6C5F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612-8E7F-4C25-8248-68E41EC8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6B7-5945-42CB-9556-BE14904F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B46-5E8B-46AE-BF48-A00E93D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C3F-F5DD-4D96-B1CA-D6D885ED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3EC-0D4D-48BB-A27D-62174EA7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ED7-562F-4CDE-BF59-DA7102FE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D6E-6F1E-4843-8800-073538A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857-EE05-48BE-8E5B-87C57D2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B72-6607-474A-939C-89ED906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926-6022-4501-A020-451F7D9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78D-8860-4AEF-A007-7344F22D9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76212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 hat landed in a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84" name="Tree"/>
          <p:cNvSpPr/>
          <p:nvPr/>
        </p:nvSpPr>
        <p:spPr>
          <a:xfrm>
            <a:off x="2209680" y="1295280"/>
            <a:ext cx="4410360" cy="3114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-76212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climbed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88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-60948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his hat from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ree"/>
          <p:cNvSpPr/>
          <p:nvPr/>
        </p:nvSpPr>
        <p:spPr>
          <a:xfrm>
            <a:off x="2666880" y="914400"/>
            <a:ext cx="4191120" cy="37148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1351080" cy="158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-76212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limbed down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97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-53352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tire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-60948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he decided to take a nap under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ree"/>
          <p:cNvSpPr/>
          <p:nvPr/>
        </p:nvSpPr>
        <p:spPr>
          <a:xfrm>
            <a:off x="1523880" y="-152280"/>
            <a:ext cx="3505320" cy="3647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371600" cy="16048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60948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he awoke he was very hung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9" name="Cloud Callout 3"/>
          <p:cNvSpPr/>
          <p:nvPr/>
        </p:nvSpPr>
        <p:spPr>
          <a:xfrm rot="2740200">
            <a:off x="5000040" y="628560"/>
            <a:ext cx="3200400" cy="190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 rot="2890800">
            <a:off x="6011640" y="1001880"/>
            <a:ext cx="1276200" cy="95868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3"/>
          <a:stretch/>
        </p:blipFill>
        <p:spPr>
          <a:xfrm>
            <a:off x="-60948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hung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14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-60948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lked back to his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847960" cy="333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jwertheimer\Local Settings\Temporary Internet Files\Content.IE5\0GPPNENF\MPj04385130000[1].jpg"/>
          <p:cNvPicPr/>
          <p:nvPr/>
        </p:nvPicPr>
        <p:blipFill>
          <a:blip r:embed="rId2"/>
          <a:stretch/>
        </p:blipFill>
        <p:spPr>
          <a:xfrm>
            <a:off x="914400" y="457200"/>
            <a:ext cx="4357800" cy="4017960"/>
          </a:xfrm>
          <a:prstGeom prst="rect">
            <a:avLst/>
          </a:prstGeom>
          <a:ln w="0">
            <a:noFill/>
          </a:ln>
        </p:spPr>
      </p:pic>
      <p:pic>
        <p:nvPicPr>
          <p:cNvPr id="119" name="Recorded Sound" descr=""/>
          <p:cNvPicPr/>
          <p:nvPr/>
        </p:nvPicPr>
        <p:blipFill>
          <a:blip r:embed="rId3"/>
          <a:stretch/>
        </p:blipFill>
        <p:spPr>
          <a:xfrm>
            <a:off x="-99072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mom was waiting for him with som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Documents and Settings\jwertheimer\Local Settings\Temporary Internet Files\Content.IE5\0GPPNENF\MCj04119060000[1].wmf"/>
          <p:cNvPicPr/>
          <p:nvPr/>
        </p:nvPicPr>
        <p:blipFill>
          <a:blip r:embed="rId1"/>
          <a:stretch/>
        </p:blipFill>
        <p:spPr>
          <a:xfrm>
            <a:off x="3352680" y="990720"/>
            <a:ext cx="252900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2"/>
          <a:stretch/>
        </p:blipFill>
        <p:spPr>
          <a:xfrm>
            <a:off x="-76212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name is Gr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Thank yo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3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-4572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is 6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49" name="Oval Callout 3"/>
          <p:cNvSpPr/>
          <p:nvPr/>
        </p:nvSpPr>
        <p:spPr>
          <a:xfrm flipH="1" rot="19798800">
            <a:off x="2184840" y="1103400"/>
            <a:ext cx="1790640" cy="1599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19520" y="1828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-76212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ves his red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-609480" y="99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never goes anywhere without his red 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-9144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ay his hat blew off his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2857680" cy="285768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4"/>
          <p:cNvCxnSpPr/>
          <p:nvPr/>
        </p:nvCxnSpPr>
        <p:spPr>
          <a:xfrm flipV="1">
            <a:off x="2438280" y="2208960"/>
            <a:ext cx="2439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6"/>
          <p:cNvCxnSpPr/>
          <p:nvPr/>
        </p:nvCxnSpPr>
        <p:spPr>
          <a:xfrm flipV="1">
            <a:off x="2819520" y="2971440"/>
            <a:ext cx="2134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 flipV="1">
            <a:off x="3505320" y="3580560"/>
            <a:ext cx="2134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-76212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after his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1" name="Recorded Sound" descr=""/>
          <p:cNvPicPr/>
          <p:nvPr/>
        </p:nvPicPr>
        <p:blipFill>
          <a:blip r:embed="rId3"/>
          <a:stretch/>
        </p:blipFill>
        <p:spPr>
          <a:xfrm>
            <a:off x="-76212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the hat for a lo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8" name="Recorded Sound" descr=""/>
          <p:cNvPicPr/>
          <p:nvPr/>
        </p:nvPicPr>
        <p:blipFill>
          <a:blip r:embed="rId3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very 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-1143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24:02Z</dcterms:created>
  <dc:creator>itsuser</dc:creator>
  <dc:description/>
  <dc:language>en-US</dc:language>
  <cp:lastModifiedBy>itsuser</cp:lastModifiedBy>
  <dcterms:modified xsi:type="dcterms:W3CDTF">2009-04-14T16:08:45Z</dcterms:modified>
  <cp:revision>12</cp:revision>
  <dc:subject/>
  <dc:title>Slide 1</dc:title>
</cp:coreProperties>
</file>